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D976-CA3F-48FF-94C0-5F4C6AD8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C9FB-2E66-4650-A17D-6D0ADB02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C4A-8A86-4B88-8EB5-21D12179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71D5-1CD2-4214-820E-46637484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2C7D-8F03-4060-91EA-3AFAC805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AAB7-537B-42BA-9FCA-6608C42D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0C25-A220-4CC3-9D99-6D242EAD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EC1B-6EC7-444F-9FCF-DBEFD29D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1163-0D21-49F5-9341-3FC3C148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2B34-3E26-4B55-922C-CC0C1B51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A57C-7E2B-4D67-9E0A-A4A9C39D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25CB-117B-4DC1-BC9B-8B966651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35AC-2F79-4E52-8A4D-7CC90E1A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454A-A543-47B4-9285-5F2BF623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69F9-27CB-4974-93A6-5595055F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CCA0-9C3F-4CDB-B5F6-2D284512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1478-51F0-4DA6-A82C-13C2A6FC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CBD7-2492-4336-80D8-B5BA5BD4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CC86-B3AE-4A20-96B2-554CF3BB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D8D6-7D7B-4196-91E5-FF763EAF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B24-CDFF-4D4C-9E80-C7FECC3B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6581-6280-43DE-B42A-A601A783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2AB3-CA94-4148-8D9D-C55D1C49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818F-558E-4D10-A703-7B04785D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22E6-237E-495C-B82C-8163188C07F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882D-5B83-44D5-9478-54D68C95486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РАЗВИТИЕ ЭЛЕМЕНТАРНЫХ МАТЕМАТИЧЕСКИХ ПРЕДСТАВЛЕНИЙ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тельные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грамма воспитания и обучения в детском саду Под ред. М.А.Василье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ормировать представление о равенстве (неравенстве) предметов на основе счёта («Здесь один, два зайчика, а здесь одна, две, три ёлочки, Ёлочек больше, чем зайчиков: 3 больше, чем 2, а 2 меньше, чем 3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ить уравнивать неравные группы двумя способ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ить отсчитывать предметы из большего количества (отсчитай 4 петушка, принеси 3 зайчик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ить считать предметы на ощупь, на слух, считать движ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ить на основе счёта устанавливать равенство (неравенство) групп предметов в ситуациях, когда предметы в группах расположены на разном расстоянии друг от друга, или отличаются по размера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еличин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Совершенствовать умение сравнивать два предмета по величине (длине, ширине, высоте) путём наложения и приложения их друг друг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ить устанавливать размерные отношения между 3-5 предметами. (сериационный ряд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Форм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Развивать представление о геометрических фигурах: шар, куб, цилиндр, круг, квадрат, треугольник. Учить выделять особые признаки фигур (наличие или отсутствие углов, устойчивость и др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знакомить с прямоугольником, сравнивать его с уже известными фигур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ормировать представление, что фигуры могут быть разных размер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ить соотносить форму предметов с геометрическими фигурами: тарелка – круг, мяч – шар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риентировка в пространств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Совершенствовать умение определять направление от себя, двигаться в заданном направлении (вперёд-назад, направо-налево, вверх-вниз), обозначать словами положение предмета по отношению к себе (справа от меня -, слева -, сзади на полках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знакомить с пространственными отношениями: далеко – близк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Ориентировка во времен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Расширять представление детей о частях суток, их последовательности (утро, день, вечер, ночь). Объяснить значение слов «вчера», «сегодня», «завтра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скрыть на конкретных примерах понятия «быстро» - «медленно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 концу года дети могу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личать из каких частей составлена группа предметов, называть их характерные особенности (цвет, форму, величину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читать до 5 (количественный счёт). Отвечать на вопрос: «сколько?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равнивать две группы предметов путём составления пар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складывать 3-5 предметов разной величины (длины, ширины, высоты) в возрастающем (убывающем) порядке; рассказывать о величине каждого предмета в ряд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личать и называть треугольник, круг, квадрат, прямоугольник; шар, куб, цилиндр; знать их характерные отлич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ходить в окружающей обстановке предметы, похожие на знакомые фиг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пределять направление движения от себя (направо, налево, вперёд, назад, вверх, вниз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личать левую и правую ру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пределять части суто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таршая групп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Учить составлять множества (группы предметов) из разных по качеству элементов (разного цвета, размера, формы, материала), устанавливать отношения между целым множеством и его отдельными част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1 младшая групп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Формирование групп однородных предметов: «много» и «один», «много» и «мал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еличин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Предметы контрастных размеров (большой домик – маленький домик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Форм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Предметы разной формы (кубик, шар и др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ить считать до 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ить порядковому счёту  в пределах до 10, различать вопросы «сколько?», «который?», «какой?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ить отсчитывать предметы из большого количества по образцу и по заданному числу (в пределах 1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ить сравнивать рядом стоящие числа в пределах 10 на основе сравнения конкретных множест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пражнять в счёте звуков, на ощупь, движений по названному числ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должать формировать представление о равенстве; учить определять равное количество разных предметов в группах, правильно обобщать числовые значения  на основе счёта и сравнения групп (5 петушков, 5 машин, 5 матрёшек, всех игрушек по 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точнить понимание независимости числа от величины предметов, расстояния между ними, формы, их расположения  и направления счё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знакомить с количественным составом числа из единиц в пределах 5 на конкретном материале( 5 - это один…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ормировать понятие, что предмет (лист бумаги…) можно разделить на  несколько равных част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еличин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Устанавливать размерные отношения между 5-10 предметами разной длины (высоты, ширины или толщины); располагать в возрастающем (убывающем) порядке, отражать в речи отнош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ить сравнивать предметы по величине (длине, ширине, высоте) с помощью условной мерки (равной одному из сравниваемых предмет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вивать глазомер детей, умение находить в специально организованной обстановке предметы длиннее (короче), выше (ниже), шире (уже), толще (тоньше) образца и равные ем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Форм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Познакомить  детей с овалом а основе сравнения его с кругом и прямоугольник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вивать умение анализировать форму знакомых предметов, находить в ближайшем окружении предметы одинаковой фор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Ориентировка в пространств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Закреплять и расширять пространственные представления: справа, слева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ить ориентироваться на листе бумаги (слева, справа, вверху, внизу, в середин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ить обозначать в речи положение того или иного предмета по отношению к себе и другому предмету («Справа от куклы сидит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ить двигаться в заданном направлении, меняя его по сигналу или в соответствии со стрелками; определять своё местонахождение среди окружающих людей и предметов (Я стою между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Ориентировка во времени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ать детям представление о том, что утро, день, вечер, ночь составляют сут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станавливать последовательность (что было вчера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 концу года дети могу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делять составные части предметов; определять признаки различия и сходства, сравнивать части на основе составления пар и счё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читать в пределах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авильно пользоваться порядковыми и количественными числительными («Сколько?, «Который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равнивать рядом стоящие числа в пределах 10 (опираясь на наглядность), устанавливать, какое число больше (меньше) другого, уравнивая  неравные группы двумя способ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равнивать предметы разной величины, размещая их в порядке возрастания (убывания) размера (длины, ширины, высоты, толщин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личать форму предметов: круглую, треугольную, четырёхугольну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означать словом своё местонахождение, а также положение одного предмета по отношению к другом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зывать последовательно части сут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зывать текущий день не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 концу года дети могу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ктивно участвовать в образовании групп из отдельных предметов, различать «много» предметов и «один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Различать большие и маленькие предмет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знавать шар и ку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Подготовительная к школе группа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оличество и счё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Развивать умение видеть составные части множества, в которых предметы отличаются определёнными признаками. Упражнять в операциях объединения, дополнения множества, выделения из множества отдельных его частей; учить устанавливать соотношения между частями на основе счёта и составления па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вершенствовать навыки количественного и порядкового счёта (10). Показать, как образуются числа второго десят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знакомить с цифрами от 0 до 9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креплять понимание отношений между числами натурального ряда (7 больше 6 на 1, а 6 меньше 7 на 1), умение увеличивать или уменьшать каждое число на 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ить называть числа в прямом и обратном порядке; последующее и предыдущее число к названному, определять пропущенное числ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знакомить с составом чисел второго пятка из единиц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ить раскладывать число на два меньших (в пределах 10) и составлять из двух меньших больше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знакомить с монетами достоинством 1, 5,10 копеек; 1, 2, 5, 10 рубл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ить  на наглядной основе составлять и решать простые задачи на сложение (к большему прибавляется меньшее) и на вычитание (вычитаемое меньше остатка). При решении задач пользоваться знаками действий: плюс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), минус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)  и знаком отношения равно (=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еличин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Учить считать по заданной мере, когда за единицу счёта принимается не один, а несколько предметов или часть предме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ить делить предмет на 2, 4, 8 равных частей путём сгибания, с помощью измерения условной мерки, называть части целог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спользовать условную мерку при измерении (из бумаги в клетку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ить измерять объём жидких и сыпучих тел с помощью условной мерки. Развивать представление о том, что результат измерения зависит от величины условной мер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вивать «чувство веса». Упражнять в сравнении предметов по тяжести (тяжелее – легче). Познакомить с вес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Форм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Дать представление о многоугольниках (на примере треугольника, четырёхугольник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ить моделировать геометрические фор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креплять представление об известных геометрических фигурах (шаре, кубе, цилиндре, круге, овале, квадрате, прямоугольнике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Ориентировка в пространств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Упражнять в расположении предметов и их изображений на листе бумаги в клетку (верхний правый угол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ить графически изображать пространственные отношения и моделировать их в виде рисунка, плана, схемы; передвигаться в пространстве, используя стрелки, пла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Ориентировка во времен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Закреплять представление о последовательности дней недели, месяца, г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ать элементарные представления о необратимости времен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вивать чувство времени: учить различать длительность временных отрезков (1, 5, 10 минут, 1 час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ить определять время по часам с точностью до 1 час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 концу года дети могу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ъединять группы предметов и удалять из группы ча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читать до 10 и дальше (количественный и порядковый счё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зывать числа в прямом (обратном) порядке до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относить цифру (0-9) и количество предме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2 младшая групп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Составление группы из однородных предметов и выделение из неё одного предмета. Различение понятия «много», «один», «по одному», «ни одного»; нахождение одного или несколько одинаковых предметов в окружающей обстановке. Понимание вопроса «Сколько?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ставлять и решать задачи в одно действие на сложение и вычитание, пользоваться цифрами и арифметическими знак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равнивать, измерять длину предметов, отрезков прямых линий с помощью условной мер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елить круг, квадрат на две, четыре равные части, сравнивать целый предмет с его част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доизменять геометрические фигуры, составлять из малых форм большие. Ориентироваться в окружающем пространстве и на листе бумаг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пределять время по часа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Зна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став чисел первого десятка (из отдельных единиц) и состав чисел первого пятка из двух меньши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получить каждое число первого десятка, прибавляя единицу к предыдущему и вычитая единицу из следующего за ним в ря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рифметические знаки, монет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звания месяцев года, последовательность дней не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равнение двух равных (неравных групп предметов на основе взаимного сопоставления предметов. Выполнение действий налож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еличин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Сравнение предметов (одинаковых) контрастных размеров с использованием приёма наложения и обозначение результата словами (по длине, ширине, высоте, величине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 концу года дети могу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руппировать предметы по цвету, форме и величи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поставлять группы из однородных предметов и выделять один предмет из групп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ходить один и много одинаковых предметов в окружающей обстанов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равнивать два контрастных по величине предмета, используя предметы наложения, показывать результат наложения (какой из предметов длинный – короткий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личать круг и квадрат, имеющие углы и круглую форм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нимать слова: впереди-сзади, вверху-внизу, слева-справа, на, над-под, верхняя-нижня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редняя групп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оличество и счё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Сравнение двух множеств предметов разных по качеству (разного цвета, формы, размера), определяя их равенство и неравенство на основе составления пар (не прибегая к счёту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учение счёту до 5 (соотносить каждое числительное только с одним предметом пересчитываемой группы, а последнее со всеми пересчитанными предметами. («Один, два, три  - всего три кружка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2:29:45Z</dcterms:created>
  <dc:creator>raven</dc:creator>
  <dc:description/>
  <dc:language>en-US</dc:language>
  <cp:lastModifiedBy>raven</cp:lastModifiedBy>
  <dcterms:modified xsi:type="dcterms:W3CDTF">2009-11-08T14:10:43Z</dcterms:modified>
  <cp:revision>2</cp:revision>
  <dc:subject/>
  <dc:title>РАЗВИТИЕ ЭЛЕМЕНТАРНЫХ МАТЕМАТИЧЕСКИХ ПРЕДСТАВЛЕНИЙ</dc:title>
</cp:coreProperties>
</file>